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5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A4F3-C199-4371-AD7A-70B848167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30400" y="690480"/>
            <a:ext cx="4597200" cy="3449880"/>
          </a:xfrm>
          <a:prstGeom prst="rect">
            <a:avLst/>
          </a:prstGeom>
          <a:ln w="0">
            <a:noFill/>
          </a:ln>
        </p:spPr>
      </p:sp>
      <p:sp>
        <p:nvSpPr>
          <p:cNvPr id="43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D2C9-B89E-4587-A849-8CCF15661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7200" cy="3449880"/>
          </a:xfrm>
          <a:prstGeom prst="rect">
            <a:avLst/>
          </a:prstGeom>
          <a:ln w="0">
            <a:noFill/>
          </a:ln>
        </p:spPr>
      </p:sp>
      <p:sp>
        <p:nvSpPr>
          <p:cNvPr id="4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94D8-1E90-4505-AE4D-C13150BA7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0400" y="690480"/>
            <a:ext cx="4597200" cy="3449880"/>
          </a:xfrm>
          <a:prstGeom prst="rect">
            <a:avLst/>
          </a:prstGeom>
          <a:ln w="0">
            <a:noFill/>
          </a:ln>
        </p:spPr>
      </p:sp>
      <p:sp>
        <p:nvSpPr>
          <p:cNvPr id="46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0053-F39F-4C81-B41B-49290704B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7200" cy="3449880"/>
          </a:xfrm>
          <a:prstGeom prst="rect">
            <a:avLst/>
          </a:prstGeom>
          <a:ln w="0">
            <a:noFill/>
          </a:ln>
        </p:spPr>
      </p:sp>
      <p:sp>
        <p:nvSpPr>
          <p:cNvPr id="469" name="PlaceHolder 2"/>
          <p:cNvSpPr>
            <a:spLocks noGrp="1"/>
          </p:cNvSpPr>
          <p:nvPr>
            <p:ph type="body"/>
          </p:nvPr>
        </p:nvSpPr>
        <p:spPr>
          <a:xfrm>
            <a:off x="685800" y="4370400"/>
            <a:ext cx="5486400" cy="41385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 handbooks, rules, procedures, meeting minutes and one on one counseling are helpful</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5</a:t>
            </a:r>
            <a:r>
              <a:rPr b="0" lang="en-US" sz="1200" spc="-1" strike="noStrike" baseline="30000">
                <a:solidFill>
                  <a:srgbClr val="000000"/>
                </a:solidFill>
                <a:latin typeface="Calibri"/>
              </a:rPr>
              <a:t>th</a:t>
            </a:r>
            <a:r>
              <a:rPr b="0" lang="en-US" sz="1200" spc="-1" strike="noStrike">
                <a:solidFill>
                  <a:srgbClr val="000000"/>
                </a:solidFill>
                <a:latin typeface="Calibri"/>
              </a:rPr>
              <a:t> grader that he is the worst trumpet player ever to step foot in the classroo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parent at an IEP meeting that “This school district violates IDEA every d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wing a student’s IPOD into the s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Can you think of other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9C39-74AF-4BAE-87A2-561C43597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0400" y="690480"/>
            <a:ext cx="4597200" cy="3449880"/>
          </a:xfrm>
          <a:prstGeom prst="rect">
            <a:avLst/>
          </a:prstGeom>
          <a:ln w="0">
            <a:noFill/>
          </a:ln>
        </p:spPr>
      </p:sp>
      <p:sp>
        <p:nvSpPr>
          <p:cNvPr id="47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726D-6323-4191-BEB6-2BDBCF89B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7200" cy="3449880"/>
          </a:xfrm>
          <a:prstGeom prst="rect">
            <a:avLst/>
          </a:prstGeom>
          <a:ln w="0">
            <a:noFill/>
          </a:ln>
        </p:spPr>
      </p:sp>
      <p:sp>
        <p:nvSpPr>
          <p:cNvPr id="4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8CAE-5D86-41CB-9F4C-F6118E272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0400" y="690480"/>
            <a:ext cx="4597200" cy="3449880"/>
          </a:xfrm>
          <a:prstGeom prst="rect">
            <a:avLst/>
          </a:prstGeom>
          <a:ln w="0">
            <a:noFill/>
          </a:ln>
        </p:spPr>
      </p:sp>
      <p:sp>
        <p:nvSpPr>
          <p:cNvPr id="47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investigation: custodian leaving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reatment:  different consequence for the pain in the neck vs the “good” employ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and thorough: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ll potential witness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one suggested by the employ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 the information of each interview relative to reasons to lie or not l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than not can be the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D37F-5A97-450C-BC02-138211281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7200" cy="3449880"/>
          </a:xfrm>
          <a:prstGeom prst="rect">
            <a:avLst/>
          </a:prstGeom>
          <a:ln w="0">
            <a:noFill/>
          </a:ln>
        </p:spPr>
      </p:sp>
      <p:sp>
        <p:nvSpPr>
          <p:cNvPr id="4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6178-94AE-40D8-84A8-4443DB15A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0400" y="690480"/>
            <a:ext cx="4597200" cy="3449880"/>
          </a:xfrm>
          <a:prstGeom prst="rect">
            <a:avLst/>
          </a:prstGeom>
          <a:ln w="0">
            <a:noFill/>
          </a:ln>
        </p:spPr>
      </p:sp>
      <p:sp>
        <p:nvSpPr>
          <p:cNvPr id="4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304-3A2B-4FF3-AC13-778455BA8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7200" cy="3449880"/>
          </a:xfrm>
          <a:prstGeom prst="rect">
            <a:avLst/>
          </a:prstGeom>
          <a:ln w="0">
            <a:noFill/>
          </a:ln>
        </p:spPr>
      </p:sp>
      <p:sp>
        <p:nvSpPr>
          <p:cNvPr id="48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process is provided by a predetermination opportunity to respond  Due process clause requires some sort of hearing prior to discharge of an employee who has a constitutionally protected property interest in his/her employment</a:t>
            </a:r>
            <a:endParaRPr b="0" lang="en-US" sz="1200" spc="-1" strike="noStrike">
              <a:solidFill>
                <a:srgbClr val="000000"/>
              </a:solidFill>
              <a:latin typeface="Calibri"/>
            </a:endParaRPr>
          </a:p>
        </p:txBody>
      </p:sp>
      <p:sp>
        <p:nvSpPr>
          <p:cNvPr id="4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C090-531B-4EA9-AC01-2C9BD4316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0400" y="690480"/>
            <a:ext cx="4597200" cy="3449880"/>
          </a:xfrm>
          <a:prstGeom prst="rect">
            <a:avLst/>
          </a:prstGeom>
          <a:ln w="0">
            <a:noFill/>
          </a:ln>
        </p:spPr>
      </p:sp>
      <p:sp>
        <p:nvSpPr>
          <p:cNvPr id="4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of one board member is sufficient to deprive a teacher of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biased, impartial decision maker is essential to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nin/SB vested with presumption that their actions are correct – burden of proof is with the plaintiff to prove otherwise</a:t>
            </a:r>
            <a:endParaRPr b="0" lang="en-US" sz="1200" spc="-1" strike="noStrike">
              <a:solidFill>
                <a:srgbClr val="000000"/>
              </a:solidFill>
              <a:latin typeface="Calibri"/>
            </a:endParaRPr>
          </a:p>
        </p:txBody>
      </p:sp>
      <p:sp>
        <p:nvSpPr>
          <p:cNvPr id="49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AF33-61BF-4B11-B482-E31685DA2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30400" y="690480"/>
            <a:ext cx="4597200" cy="3449880"/>
          </a:xfrm>
          <a:prstGeom prst="rect">
            <a:avLst/>
          </a:prstGeom>
          <a:ln w="0">
            <a:noFill/>
          </a:ln>
        </p:spPr>
      </p:sp>
      <p:sp>
        <p:nvSpPr>
          <p:cNvPr id="43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 right to due process, freedom of religion, speech, press, to assemble, from unreasonable search and seizure</a:t>
            </a:r>
            <a:endParaRPr b="0" lang="en-US" sz="1200" spc="-1" strike="noStrike">
              <a:solidFill>
                <a:srgbClr val="000000"/>
              </a:solidFill>
              <a:latin typeface="Calibri"/>
            </a:endParaRPr>
          </a:p>
        </p:txBody>
      </p:sp>
      <p:sp>
        <p:nvSpPr>
          <p:cNvPr id="44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571B-7A0B-43CD-9876-1CC5119E1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7200" cy="3449880"/>
          </a:xfrm>
          <a:prstGeom prst="rect">
            <a:avLst/>
          </a:prstGeom>
          <a:ln w="0">
            <a:noFill/>
          </a:ln>
        </p:spPr>
      </p:sp>
      <p:sp>
        <p:nvSpPr>
          <p:cNvPr id="49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such as the code of professional conduct, employee handbooks, state laws, codes of ethics help assist in vagueness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mann: state officers and employees in OK required to take an oath of loyalty swearing that they had not been affiliated with member of organizations lists by the USAtt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gueness offends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ll:  FL required teachers to take an oath, which among other things included supporting the constitution of the us and the state of FL.  Court said – oath violated teacher’s constitutional rights except for the condition of supporting constitutions</a:t>
            </a:r>
            <a:endParaRPr b="0" lang="en-US" sz="1200" spc="-1" strike="noStrike">
              <a:solidFill>
                <a:srgbClr val="000000"/>
              </a:solidFill>
              <a:latin typeface="Calibri"/>
            </a:endParaRPr>
          </a:p>
        </p:txBody>
      </p:sp>
      <p:sp>
        <p:nvSpPr>
          <p:cNvPr id="49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33B3-CA35-44A2-B170-FBC3F27E8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0400" y="690480"/>
            <a:ext cx="4597200" cy="3449880"/>
          </a:xfrm>
          <a:prstGeom prst="rect">
            <a:avLst/>
          </a:prstGeom>
          <a:ln w="0">
            <a:noFill/>
          </a:ln>
        </p:spPr>
      </p:sp>
      <p:sp>
        <p:nvSpPr>
          <p:cNvPr id="49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5457-4681-495F-B84E-55346137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0400" y="690480"/>
            <a:ext cx="4597200" cy="3449880"/>
          </a:xfrm>
          <a:prstGeom prst="rect">
            <a:avLst/>
          </a:prstGeom>
          <a:ln w="0">
            <a:noFill/>
          </a:ln>
        </p:spPr>
      </p:sp>
      <p:sp>
        <p:nvSpPr>
          <p:cNvPr id="49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veland: district required pregnant teachers to take leave at 5 month before birth, specified when they could return with dr certificate.  Freedom of personal choice in matters of marriage and family is one of the liberties protected by 14</a:t>
            </a:r>
            <a:r>
              <a:rPr b="0" lang="en-US" sz="1200" spc="-1" strike="noStrike" baseline="30000">
                <a:solidFill>
                  <a:srgbClr val="000000"/>
                </a:solidFill>
                <a:latin typeface="Calibri"/>
              </a:rPr>
              <a:t>th</a:t>
            </a:r>
            <a:r>
              <a:rPr b="0" lang="en-US" sz="1200" spc="-1" strike="noStrike">
                <a:solidFill>
                  <a:srgbClr val="000000"/>
                </a:solidFill>
                <a:latin typeface="Calibri"/>
              </a:rPr>
              <a:t> amend due process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lutely requiring teacher to take leave at 4</a:t>
            </a:r>
            <a:r>
              <a:rPr b="0" lang="en-US" sz="1200" spc="-1" strike="noStrike" baseline="30000">
                <a:solidFill>
                  <a:srgbClr val="000000"/>
                </a:solidFill>
                <a:latin typeface="Calibri"/>
              </a:rPr>
              <a:t>th</a:t>
            </a:r>
            <a:r>
              <a:rPr b="0" lang="en-US" sz="1200" spc="-1" strike="noStrike">
                <a:solidFill>
                  <a:srgbClr val="000000"/>
                </a:solidFill>
                <a:latin typeface="Calibri"/>
              </a:rPr>
              <a:t> or 5</a:t>
            </a:r>
            <a:r>
              <a:rPr b="0" lang="en-US" sz="1200" spc="-1" strike="noStrike" baseline="30000">
                <a:solidFill>
                  <a:srgbClr val="000000"/>
                </a:solidFill>
                <a:latin typeface="Calibri"/>
              </a:rPr>
              <a:t>th</a:t>
            </a:r>
            <a:r>
              <a:rPr b="0" lang="en-US" sz="1200" spc="-1" strike="noStrike">
                <a:solidFill>
                  <a:srgbClr val="000000"/>
                </a:solidFill>
                <a:latin typeface="Calibri"/>
              </a:rPr>
              <a:t> month violates due process.  No valid relationship to state’s interest in preserving continuity of teaching</a:t>
            </a:r>
            <a:endParaRPr b="0" lang="en-US" sz="1200" spc="-1" strike="noStrike">
              <a:solidFill>
                <a:srgbClr val="000000"/>
              </a:solidFill>
              <a:latin typeface="Calibri"/>
            </a:endParaRPr>
          </a:p>
        </p:txBody>
      </p:sp>
      <p:sp>
        <p:nvSpPr>
          <p:cNvPr id="50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5FFA-F471-4753-87AE-B2DE65EA8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0400" y="690480"/>
            <a:ext cx="4597200" cy="3449880"/>
          </a:xfrm>
          <a:prstGeom prst="rect">
            <a:avLst/>
          </a:prstGeom>
          <a:ln w="0">
            <a:noFill/>
          </a:ln>
        </p:spPr>
      </p:sp>
      <p:sp>
        <p:nvSpPr>
          <p:cNvPr id="5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88A6-2C31-455B-8613-12FE862F0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30400" y="690480"/>
            <a:ext cx="4597200" cy="3449880"/>
          </a:xfrm>
          <a:prstGeom prst="rect">
            <a:avLst/>
          </a:prstGeom>
          <a:ln w="0">
            <a:noFill/>
          </a:ln>
        </p:spPr>
      </p:sp>
      <p:sp>
        <p:nvSpPr>
          <p:cNvPr id="505" name="PlaceHolder 2"/>
          <p:cNvSpPr>
            <a:spLocks noGrp="1"/>
          </p:cNvSpPr>
          <p:nvPr>
            <p:ph type="body"/>
          </p:nvPr>
        </p:nvSpPr>
        <p:spPr>
          <a:xfrm>
            <a:off x="685800" y="4370400"/>
            <a:ext cx="5486400" cy="4138560"/>
          </a:xfrm>
          <a:prstGeom prst="rect">
            <a:avLst/>
          </a:prstGeom>
          <a:noFill/>
          <a:ln w="0">
            <a:noFill/>
          </a:ln>
        </p:spPr>
        <p:txBody>
          <a:bodyPr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Clarke v. Shoreline clarified that there are some instances where the teacher can be terminated without complying with the traditional probationary procedure and plan of assistance outlined by statute. </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an argument could be made that a teacher must be put on a plan of improvement before he/she could be terminated</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C91C-1FA9-4321-9660-016471F06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0400" y="690480"/>
            <a:ext cx="4597200" cy="3449880"/>
          </a:xfrm>
          <a:prstGeom prst="rect">
            <a:avLst/>
          </a:prstGeom>
          <a:ln w="0">
            <a:noFill/>
          </a:ln>
        </p:spPr>
      </p:sp>
      <p:sp>
        <p:nvSpPr>
          <p:cNvPr id="508" name="PlaceHolder 2"/>
          <p:cNvSpPr>
            <a:spLocks noGrp="1"/>
          </p:cNvSpPr>
          <p:nvPr>
            <p:ph type="body"/>
          </p:nvPr>
        </p:nvSpPr>
        <p:spPr>
          <a:xfrm>
            <a:off x="685800" y="4370400"/>
            <a:ext cx="5486400" cy="4138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told districts that they cannot presume that misconduct outside the workplace will “materially and substantially” have a negative impact on a teacher’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provided specific factors which must be weighed when determining whether or not a teacher can be terminated for misconduct outside the work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1D23-8A93-49E8-8663-BD2D75395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90480"/>
            <a:ext cx="4597200" cy="3449880"/>
          </a:xfrm>
          <a:prstGeom prst="rect">
            <a:avLst/>
          </a:prstGeom>
          <a:ln w="0">
            <a:noFill/>
          </a:ln>
        </p:spPr>
      </p:sp>
      <p:sp>
        <p:nvSpPr>
          <p:cNvPr id="5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78F5-87B9-42E1-B518-88D7EB1A7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0400" y="690480"/>
            <a:ext cx="4597200" cy="3449880"/>
          </a:xfrm>
          <a:prstGeom prst="rect">
            <a:avLst/>
          </a:prstGeom>
          <a:ln w="0">
            <a:noFill/>
          </a:ln>
        </p:spPr>
      </p:sp>
      <p:sp>
        <p:nvSpPr>
          <p:cNvPr id="51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8C07-8B44-4B3E-8D8B-2B5A2E4DF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A061-149D-43C7-87B3-5FD19B518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30400" y="690480"/>
            <a:ext cx="4597200" cy="3449880"/>
          </a:xfrm>
          <a:prstGeom prst="rect">
            <a:avLst/>
          </a:prstGeom>
          <a:ln w="0">
            <a:noFill/>
          </a:ln>
        </p:spPr>
      </p:sp>
      <p:sp>
        <p:nvSpPr>
          <p:cNvPr id="5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0400" y="690480"/>
            <a:ext cx="4597200" cy="3449880"/>
          </a:xfrm>
          <a:prstGeom prst="rect">
            <a:avLst/>
          </a:prstGeom>
          <a:ln w="0">
            <a:noFill/>
          </a:ln>
        </p:spPr>
      </p:sp>
      <p:sp>
        <p:nvSpPr>
          <p:cNvPr id="5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5501-6558-4C3B-91AF-C81CAFA30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30400" y="690480"/>
            <a:ext cx="4597200" cy="3449880"/>
          </a:xfrm>
          <a:prstGeom prst="rect">
            <a:avLst/>
          </a:prstGeom>
          <a:ln w="0">
            <a:noFill/>
          </a:ln>
        </p:spPr>
      </p:sp>
      <p:sp>
        <p:nvSpPr>
          <p:cNvPr id="44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cases define each of the 4 aspects or parts</a:t>
            </a:r>
            <a:endParaRPr b="0" lang="en-US" sz="1200" spc="-1" strike="noStrike">
              <a:solidFill>
                <a:srgbClr val="000000"/>
              </a:solidFill>
              <a:latin typeface="Calibri"/>
            </a:endParaRPr>
          </a:p>
        </p:txBody>
      </p:sp>
      <p:sp>
        <p:nvSpPr>
          <p:cNvPr id="44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4A27-018C-4D49-949E-F95F33C25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30400" y="690480"/>
            <a:ext cx="4597200" cy="3449880"/>
          </a:xfrm>
          <a:prstGeom prst="rect">
            <a:avLst/>
          </a:prstGeom>
          <a:ln w="0">
            <a:noFill/>
          </a:ln>
        </p:spPr>
      </p:sp>
      <p:sp>
        <p:nvSpPr>
          <p:cNvPr id="5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DFEB-E1A7-4E78-8D64-CDE51B069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30400" y="690480"/>
            <a:ext cx="4597200" cy="3449880"/>
          </a:xfrm>
          <a:prstGeom prst="rect">
            <a:avLst/>
          </a:prstGeom>
          <a:ln w="0">
            <a:noFill/>
          </a:ln>
        </p:spPr>
      </p:sp>
      <p:sp>
        <p:nvSpPr>
          <p:cNvPr id="5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DB25-BC86-41A5-947F-F446D47A4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30400" y="690480"/>
            <a:ext cx="4597200" cy="3449880"/>
          </a:xfrm>
          <a:prstGeom prst="rect">
            <a:avLst/>
          </a:prstGeom>
          <a:ln w="0">
            <a:noFill/>
          </a:ln>
        </p:spPr>
      </p:sp>
      <p:sp>
        <p:nvSpPr>
          <p:cNvPr id="5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4DB6-F239-4C99-A2DF-0774BD001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30400" y="690480"/>
            <a:ext cx="4597200" cy="3449880"/>
          </a:xfrm>
          <a:prstGeom prst="rect">
            <a:avLst/>
          </a:prstGeom>
          <a:ln w="0">
            <a:noFill/>
          </a:ln>
        </p:spPr>
      </p:sp>
      <p:sp>
        <p:nvSpPr>
          <p:cNvPr id="44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ve is what people have the right to keep in terms of their employment, state continuing contract laws define this even more strictly (definition of provisional, right to work status, and even collective bargaining agreement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stantive right cannot be removed without procedural due process</a:t>
            </a:r>
            <a:endParaRPr b="0" lang="en-US" sz="1200" spc="-1" strike="noStrike">
              <a:solidFill>
                <a:srgbClr val="000000"/>
              </a:solidFill>
              <a:latin typeface="Calibri"/>
            </a:endParaRPr>
          </a:p>
        </p:txBody>
      </p:sp>
      <p:sp>
        <p:nvSpPr>
          <p:cNvPr id="44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98F5-0C8A-45F1-9EDD-491D8D71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0400" y="690480"/>
            <a:ext cx="4597200" cy="3449880"/>
          </a:xfrm>
          <a:prstGeom prst="rect">
            <a:avLst/>
          </a:prstGeom>
          <a:ln w="0">
            <a:noFill/>
          </a:ln>
        </p:spPr>
      </p:sp>
      <p:sp>
        <p:nvSpPr>
          <p:cNvPr id="44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E456-CFF1-4474-B34A-83F448DC2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0400" y="690480"/>
            <a:ext cx="4597200" cy="3449880"/>
          </a:xfrm>
          <a:prstGeom prst="rect">
            <a:avLst/>
          </a:prstGeom>
          <a:ln w="0">
            <a:noFill/>
          </a:ln>
        </p:spPr>
      </p:sp>
      <p:sp>
        <p:nvSpPr>
          <p:cNvPr id="45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170A-F31F-4773-996C-DE8B01B0F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0400" y="690480"/>
            <a:ext cx="4597200" cy="3449880"/>
          </a:xfrm>
          <a:prstGeom prst="rect">
            <a:avLst/>
          </a:prstGeom>
          <a:ln w="0">
            <a:noFill/>
          </a:ln>
        </p:spPr>
      </p:sp>
      <p:sp>
        <p:nvSpPr>
          <p:cNvPr id="45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deprived of a liberty right or a property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erty right – no charge against him, did not make a charge that would have hurt his reputation, or affect his ability to obtain other employment.  Not deprived of his Liberty right protected by the 14</a:t>
            </a:r>
            <a:r>
              <a:rPr b="0" lang="en-US" sz="1200" spc="-1" strike="noStrike" baseline="30000">
                <a:solidFill>
                  <a:srgbClr val="000000"/>
                </a:solidFill>
                <a:latin typeface="Calibri"/>
              </a:rPr>
              <a:t>th</a:t>
            </a:r>
            <a:r>
              <a:rPr b="0" lang="en-US" sz="1200" spc="-1" strike="noStrike">
                <a:solidFill>
                  <a:srgbClr val="000000"/>
                </a:solidFill>
                <a:latin typeface="Calibri"/>
              </a:rPr>
              <a:t> Amend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 need more than an abstract need or desire. Property interest not created by the constitution but by independent sources: contracts, state law, bargaining agre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s protected by due process is greater than real estate, chattel, money, protection of liberty interest is greater than that imposed in criminal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7169-C401-4D9F-8FAB-47CD5CF67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30400" y="690480"/>
            <a:ext cx="4597200" cy="3449880"/>
          </a:xfrm>
          <a:prstGeom prst="rect">
            <a:avLst/>
          </a:prstGeom>
          <a:ln w="0">
            <a:noFill/>
          </a:ln>
        </p:spPr>
      </p:sp>
      <p:sp>
        <p:nvSpPr>
          <p:cNvPr id="4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had a pattern of 1 year contracts rather than granting ten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 said it was de facto tenure, based on the prior practice of the colle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property interest in re-employment despite the absence of explicit contract tenure provision – implied by conduct of the administration a written contract with explicit language is clear evidence of formal understanding, which would support a teacher’s claim, unless sufficient cause is sh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5FA2-A806-45BA-BE1D-2BA56E762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0400" y="690480"/>
            <a:ext cx="4597200" cy="3449880"/>
          </a:xfrm>
          <a:prstGeom prst="rect">
            <a:avLst/>
          </a:prstGeom>
          <a:ln w="0">
            <a:noFill/>
          </a:ln>
        </p:spPr>
      </p:sp>
      <p:sp>
        <p:nvSpPr>
          <p:cNvPr id="46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dural due process gives us the directions to follow to determine the truth about a given situation, and then taking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escribed steps need to be followed when taking action against an employee that may result in the loss of a substantive constitutional right (e.g., loss of job, or disciplinary letter in file)</a:t>
            </a:r>
            <a:endParaRPr b="0" lang="en-US" sz="1200" spc="-1" strike="noStrike">
              <a:solidFill>
                <a:srgbClr val="000000"/>
              </a:solidFill>
              <a:latin typeface="Calibri"/>
            </a:endParaRPr>
          </a:p>
        </p:txBody>
      </p:sp>
      <p:sp>
        <p:nvSpPr>
          <p:cNvPr id="46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BE5D-3055-4489-8140-ACFD1A71B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D5ECA-BC1D-4EDA-B79E-C2647CBF8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A05A-649F-4B94-B05D-155ED333A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A0229-980A-4243-9F9F-2633591DF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F8C05-488D-4E13-BB96-11F0BC381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AB98B-1E6B-4F36-9181-CF8F21D44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2B712-C805-4808-869C-0E2941DFD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F5AA0-03A4-424D-A4BB-E1F554E15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4E9AA-4467-45B8-928A-BC2A6ECCA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D440A-899D-47A8-B11A-C4E647A9F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C19B9-5540-4A12-992D-9040F6182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1C367-D663-465F-82F2-BF43B9E50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F792-C399-44C0-A4A6-827E4CD4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21227-1E9F-424E-B809-2CC8137B3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FE53-8972-4F6B-8AAD-13384E093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4964B-A8CD-402A-A015-273C58059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3CB40-1645-4810-B439-F73CE6F42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55ADE-E5D7-4D05-A1FE-15887B149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151A82-A8B1-420B-B8F0-E38BA7962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7A005E-4247-4920-995B-5F4475B76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8AF61D-B4F7-4AC9-ADEF-207C98750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675971-95BC-41FD-8A93-A254F443A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41D3F4-E0AC-4464-AA03-7235F4C47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4E5E-6291-4CE9-8907-65FE462F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32E373-74A1-4952-8C1D-734370C04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7BD352-2E24-4F20-B5DB-0D3D4B589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A3C3A1-D620-45C4-8536-48FC66F77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CC7D27-82E7-4B1B-96F1-8B4AD1164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E36F46-28B9-4D52-8CA7-BDC037A03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969095-C546-4204-867D-95BBC66EA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566B44-59D1-4251-9F86-A1597CB3C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7B082E-8D91-4BB4-908F-A98EA8B877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B0530A-8DA9-457E-92E1-A365DEE12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39B25F-012A-4337-A6D2-93E5368FA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1BB5-D42F-4AEA-8A36-9346F65B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AE48E4-D3FB-446A-8D5E-77CEC24B9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1FBAA7-1AD8-4421-BDB1-259418DC2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1A561C-FB9F-4DE8-8E0D-10D548ACB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4AABA5-95C5-4C33-B510-3D49A02E9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B63158-073E-42C4-AD08-8837AFF37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7DD75C-D8E1-4668-894C-B22C0642B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EADED62-5DE2-4383-BD43-DBA292454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3D396F-512C-46D2-B1B7-7EE8542A65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261899E-1563-4D97-ACCA-228674EC0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94C4ED-E3D0-430D-B5B6-E6F4BDC78A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19F3-06A8-4D7D-ACA8-A5AE24F04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7C9E90-C8B3-468D-A0B9-9584EE044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151FC5-8260-4BBC-9B50-593267760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796EC7-D170-4C38-95C3-7BE76442A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A2F953-E3F9-4230-800E-93AE38F52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4525D1-F560-4150-8EB9-099C49FD6B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6C15E1-09DA-4745-B55C-817DE0198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3BE781-1AA9-4B69-BA42-794DC8374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77B7C2-13E3-41E7-85DD-9F9F317D6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42C30A-0E96-4F5B-8F25-44EE260AF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90307A-6F6A-49F2-95B1-DED4DD9B85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F3C6-741E-419A-84D9-CC37EAA3D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88AE80E-4422-45C8-8347-69E032EC4C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887A0-5108-4D20-A58A-E6B31D001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903EB-4FFD-46BB-A451-4F6209038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FB97DA-9396-4B4D-8C8D-3E924E54E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CE15C-55F8-4865-8FC0-DE1132096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5E39A-2DA6-4EF5-88A4-EDF1CFE1B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6CB58-C071-43E9-8D97-8648A2689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9CEBB-D902-4E3E-8050-EF4CFEA96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6583B-1959-443B-AA0F-821C38F3A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052D5-A86E-4D8A-9E70-AAE681AA4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A866-CB66-47BE-B815-9D0B7C95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5161A-12EA-4DC0-8ED5-7911CB115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C815EB-1FCE-4493-A471-9B504BCF70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322F77-0F52-4019-A880-CC24024095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4E9F22-E2D8-4D19-8C79-73F0FBD7A8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E54E83-E5EE-47C3-AD67-8D9E57E0B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407521-ECF8-4792-848F-39EB1E5C9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A906E5-76A8-4366-BC82-541CE5033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3BC47A-68C2-4DBF-895A-D30044D7D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A1899E-D0CE-4F70-98DD-FC9CDDDE1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618E3C-6A6D-41BF-8D2E-83741D5A5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8C0B-9D74-4452-A1B3-E82EC924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7E905B-C0F4-4508-8742-21628B71E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CF47D5-1142-414B-BA01-76964EC7A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19614F3-3B4D-4717-A4DB-FFBE31918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9898D5-AE1B-4082-8A93-75A3CEB1E6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151C68A-969C-4030-BEAC-6CE452EBF1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27F95-2A78-458A-96B3-6BF344B5FC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63AFA-E405-4EA4-8518-DB92781BC4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F164C-E305-4703-A588-881B28529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9C0E45-427C-4F6D-8AE8-E36B7E2A3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734FF-C1EF-4B07-8BB8-FC4CCA672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5F98-DC4A-4211-8D9E-57DCD7DD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95DA0-0AC1-4FF7-AA5D-481D9A44D6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8CCAA-DC84-4060-9056-B2B89073A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6F5FB-5D1F-4C08-8819-702292F86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E7A32-F035-4626-A256-38D4D09EE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7A5F7-6E08-4B4D-8A34-1EA19284F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302B27-678E-492C-ADE8-4FD4E69B6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AE6FF-1EC7-4DAC-90A5-7AE295E2CA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BABA-CD17-4A1C-A2D2-C6A747DD8C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5AFD-CE44-4AEB-BB6F-6011C5D01742}"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8639-7828-4EF5-89EE-EA6043EC7BA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9C5F-7914-4B2A-A06E-15BE2CAEF6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1909-8A66-4399-88AF-42FEE328E8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4585-0236-4B49-AEAD-5D7011751FB2}"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F753-FB79-4638-902C-A6CEA8ADF71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D2D5-1B39-4F7A-9BF3-28F09DFDC4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bde"/>
                </a:solidFill>
                <a:latin typeface="Tw Cen MT"/>
              </a:rPr>
              <a:t>DUE PROCESS RIGHTS OF TEACHERS</a:t>
            </a:r>
            <a:endParaRPr b="0" lang="en-US" sz="4000" spc="-1" strike="noStrike">
              <a:solidFill>
                <a:srgbClr val="eaebde"/>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iscipline, Discharge, and Evaluation</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Mathews Balancing Test</a:t>
            </a:r>
            <a:endParaRPr b="0" lang="en-US" sz="4400" spc="-1" strike="noStrike">
              <a:solidFill>
                <a:srgbClr val="676a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vate interest which is affect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isk of erroneous deprivation, value of additional safeguard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te’s interest, function involved and burden of additional safeguards</a:t>
            </a:r>
            <a:endParaRPr b="0" lang="en-US" sz="24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individual entitled to a hearing prior to action?</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re/post deprivation hearing requir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tent of proof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Factors</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evels of Applic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at Process is Due?</a:t>
            </a:r>
            <a:endParaRPr b="0" lang="en-US" sz="4400" spc="-1" strike="noStrike">
              <a:solidFill>
                <a:srgbClr val="676a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hearing before termination (Loudermill)</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union representative if requested (Weingarten)</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n opportunity to improve performance before termination (teacher termination laws  RCW)</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fair, unbiased process to investigate the truth, with fair consequences resulting (“7 Tests of Just Cause”, determined by arbitration cases)</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http://edu.teamster.org/seven.htm</a:t>
            </a:r>
            <a:endParaRPr b="0" lang="en-US" sz="2000" spc="-1" strike="noStrike">
              <a:solidFill>
                <a:srgbClr val="000000"/>
              </a:solidFill>
              <a:latin typeface="Tw Cen MT"/>
            </a:endParaRPr>
          </a:p>
          <a:p>
            <a:pPr marL="277200" indent="-277200" algn="r">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est 1: Providing Notice</a:t>
            </a:r>
            <a:endParaRPr b="0" lang="en-US" sz="4400" spc="-1" strike="noStrike">
              <a:solidFill>
                <a:srgbClr val="676a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9000"/>
          </a:bodyPr>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Did the employer give employee forewarning of the possible/probable consequences of the disciplinary conduct</a:t>
            </a:r>
            <a:endParaRPr b="0" lang="en-US" sz="2700" spc="-1" strike="noStrike">
              <a:solidFill>
                <a:srgbClr val="000000"/>
              </a:solidFill>
              <a:latin typeface="Tw Cen MT"/>
            </a:endParaRPr>
          </a:p>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mplied notice” is the concept that every employee should know will not be tolerated</a:t>
            </a:r>
            <a:endParaRPr b="0" lang="en-US" sz="27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ocially disapproved: theft, arson, property damage, threats, assaults, sexual harassment, firearms, selling drugs, gambling</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dustrially disapproved: insubordination, leaving without permission, poor performance, dishonesty, sabotage</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Similar Offenses”</a:t>
            </a:r>
            <a:endParaRPr b="0" lang="en-US" sz="2400" spc="-1" strike="noStrike">
              <a:solidFill>
                <a:srgbClr val="000000"/>
              </a:solidFill>
              <a:latin typeface="Tw Cen MT"/>
            </a:endParaRPr>
          </a:p>
          <a:p>
            <a:pPr marL="226080" indent="-2260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ips for Providing Notice</a:t>
            </a:r>
            <a:endParaRPr b="0" lang="en-US" sz="4400" spc="-1" strike="noStrike">
              <a:solidFill>
                <a:srgbClr val="676a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gressive discipline</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part from your bargained discipline steps </a:t>
            </a:r>
            <a:r>
              <a:rPr b="0" i="1" lang="en-US" sz="3600" spc="-1" strike="noStrike">
                <a:solidFill>
                  <a:srgbClr val="000000"/>
                </a:solidFill>
                <a:latin typeface="Tw Cen MT"/>
              </a:rPr>
              <a:t>cautiously</a:t>
            </a:r>
            <a:endParaRPr b="0" lang="en-US" sz="36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EW the discipline language in the bargained contract – note detail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consistent in which rules result in which penaltie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st Practice can only be altered by clear, public communic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hould the Employee Have Known?</a:t>
            </a:r>
            <a:endParaRPr b="0" lang="en-US" sz="4400" spc="-1" strike="noStrike">
              <a:solidFill>
                <a:srgbClr val="676a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ttp://www.comcast.net/video/teacher-writes-loser-on-child-s-assignments/1439046655/Comcast/1439005829/</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http://www.ksdk.com/news/local/story.aspx?storyid=189813</a:t>
            </a:r>
            <a:r>
              <a:rPr b="0" lang="en-US"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kimatv.com/news/43396642.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your</a:t>
            </a:r>
            <a:r>
              <a:rPr b="1" i="1" lang="en-US" sz="2000" spc="-1" strike="noStrike">
                <a:solidFill>
                  <a:srgbClr val="000000"/>
                </a:solidFill>
                <a:latin typeface="Tw Cen MT"/>
              </a:rPr>
              <a:t>westvalley</a:t>
            </a:r>
            <a:r>
              <a:rPr b="0" i="1" lang="en-US" sz="2000" spc="-1" strike="noStrike">
                <a:solidFill>
                  <a:srgbClr val="000000"/>
                </a:solidFill>
                <a:latin typeface="Tw Cen MT"/>
              </a:rPr>
              <a:t>.com/news/computer-13795-surprise-police.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he Other 7 Tests</a:t>
            </a:r>
            <a:endParaRPr b="0" lang="en-US" sz="4400" spc="-1" strike="noStrike">
              <a:solidFill>
                <a:srgbClr val="676a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asonable Rule: Is the rule reasonable?</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vestigation: Did the employer make a true and thorough effort to determine the truth?</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air Investigation: Was the investigation conducted fairly and objectively?</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oof: Was the evidence sufficient?</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qual Treatment: Are penalties given evenhandedly without discrimination?</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enalty: Was the consequence related to the seriousness of the offense and employee’s past work record?</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grade student reported that a teacher had grabbed him hard enough by the arm to leave a bruise.  The principal investigated by talking to other students in the class, who all said the teacher was mad and did grab the student by the arm.  The principal called the teacher into his office with her union rep and issued her a written warn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ustodian was reported to being gone during her shift.  The principal investigated by returning to school and looking for her every evening looking for her, but did not see her.  The principal recommended termination for false reporting on her time sheet.  Should the Superintendent follow his recommend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Tw Cen MT"/>
              </a:rPr>
              <a:t>Cleveland Bd v. Loudermill     SC 1985</a:t>
            </a:r>
            <a:endParaRPr b="0" lang="en-US" sz="4000" spc="-1" strike="noStrike">
              <a:solidFill>
                <a:srgbClr val="676a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ecurity guard was fired for falsifying his application.  He was not afforded the opportunity to respond to the charge.  He brought sui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did the court sa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is the Loudermill r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rump v. Board of Ed   </a:t>
            </a:r>
            <a:r>
              <a:rPr b="0" lang="en-US" sz="4000" spc="-1" strike="noStrike">
                <a:solidFill>
                  <a:srgbClr val="676a55"/>
                </a:solidFill>
                <a:latin typeface="Tw Cen MT"/>
              </a:rPr>
              <a:t>SC NC 1990</a:t>
            </a:r>
            <a:endParaRPr b="0" lang="en-US" sz="40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was terminated for immorality and insubordination.  He sued seeking damages, claiming his due process rights were denied because one member of the school board was bias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id the court respo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urpose</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xtend justice and fairness to the individual in relationship to government</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stablish a fundamental balance between the rights of individuals and the exercise of the police power of the state</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ranteed by the 5</a:t>
            </a:r>
            <a:r>
              <a:rPr b="0" lang="en-US" sz="2900" spc="-1" strike="noStrike" baseline="30000">
                <a:solidFill>
                  <a:srgbClr val="000000"/>
                </a:solidFill>
                <a:latin typeface="Tw Cen MT"/>
              </a:rPr>
              <a:t>th</a:t>
            </a:r>
            <a:r>
              <a:rPr b="0" lang="en-US" sz="2900" spc="-1" strike="noStrike">
                <a:solidFill>
                  <a:srgbClr val="000000"/>
                </a:solidFill>
                <a:latin typeface="Tw Cen MT"/>
              </a:rPr>
              <a:t> and 14</a:t>
            </a:r>
            <a:r>
              <a:rPr b="0" lang="en-US" sz="2900" spc="-1" strike="noStrike" baseline="30000">
                <a:solidFill>
                  <a:srgbClr val="000000"/>
                </a:solidFill>
                <a:latin typeface="Tw Cen MT"/>
              </a:rPr>
              <a:t>th</a:t>
            </a:r>
            <a:r>
              <a:rPr b="0" lang="en-US" sz="2900" spc="-1" strike="noStrike">
                <a:solidFill>
                  <a:srgbClr val="000000"/>
                </a:solidFill>
                <a:latin typeface="Tw Cen MT"/>
              </a:rPr>
              <a:t> Amendments </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cannot adversely impact (discipline) an employee in violation of his/her constitutional righ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ness Test</a:t>
            </a:r>
            <a:endParaRPr b="0" lang="en-US" sz="44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government regulation is void because of vagueness if its prohibitions are not clearly defin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law is vague if persons of common intelligence are required to guess as to their actual mean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No standard of conduct is specified at all”</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iemann v. Updegraff     SC 1952</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nell v Higginbotham     SC 1971</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 Administrator Trouble</a:t>
            </a:r>
            <a:endParaRPr b="0" lang="en-US" sz="4400" spc="-1" strike="noStrike">
              <a:solidFill>
                <a:srgbClr val="676a55"/>
              </a:solidFill>
              <a:latin typeface="Tw Cen MT"/>
            </a:endParaRPr>
          </a:p>
        </p:txBody>
      </p:sp>
      <p:sp>
        <p:nvSpPr>
          <p:cNvPr id="406" name=""/>
          <p:cNvSpPr txBox="1"/>
          <p:nvPr/>
        </p:nvSpPr>
        <p:spPr>
          <a:xfrm>
            <a:off x="609120" y="1828800"/>
            <a:ext cx="8153640" cy="4114800"/>
          </a:xfrm>
          <a:prstGeom prst="rect">
            <a:avLst/>
          </a:prstGeom>
          <a:noFill/>
          <a:ln w="0">
            <a:noFill/>
          </a:ln>
        </p:spPr>
        <p:txBody>
          <a:bodyPr anchor="t">
            <a:normAutofit fontScale="94000"/>
          </a:bodyPr>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Come to my office around 3 pm”</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lean up your room for the open house”</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hat floor looks dirty”</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I’d like your lesson plan to be available when I walk in”</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hange people’s perception of you”</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ry to avoid doing things that make you look like you want to groom female students”</a:t>
            </a: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rrationality/Presumptions Test</a:t>
            </a:r>
            <a:endParaRPr b="0" lang="en-US" sz="44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ust be a rational connection between the fact proved and the ultimate end presum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ndividual cannot be denied the right to rebut an irrational presump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rrebuttable presumptions deny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leveland v. Lefleur   SC 1974</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a:t>
            </a:r>
            <a:endParaRPr b="0" lang="en-US" sz="4400" spc="-1" strike="noStrike">
              <a:solidFill>
                <a:srgbClr val="676a55"/>
              </a:solidFill>
              <a:latin typeface="Tw Cen MT"/>
            </a:endParaRPr>
          </a:p>
        </p:txBody>
      </p:sp>
      <p:sp>
        <p:nvSpPr>
          <p:cNvPr id="410" name="PlaceHolder 2"/>
          <p:cNvSpPr>
            <a:spLocks noGrp="1"/>
          </p:cNvSpPr>
          <p:nvPr>
            <p:ph/>
          </p:nvPr>
        </p:nvSpPr>
        <p:spPr>
          <a:xfrm>
            <a:off x="685800" y="1905120"/>
            <a:ext cx="7772400" cy="4419360"/>
          </a:xfrm>
          <a:prstGeom prst="rect">
            <a:avLst/>
          </a:prstGeom>
          <a:noFill/>
          <a:ln w="0">
            <a:noFill/>
          </a:ln>
        </p:spPr>
        <p:txBody>
          <a:bodyPr anchor="t">
            <a:normAutofit fontScale="95000"/>
          </a:bodyPr>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general, Clarke v. Shoreline clarified that there are some instances where the teacher can be terminated without complying with the traditional probationary procedure and plan of assistance outlined by statute. </a:t>
            </a:r>
            <a:endParaRPr b="0" lang="en-US" sz="29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iously, an argument could be made that a teacher must be put on a plan of improvement before he/she could be termin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      WA SC 1986</a:t>
            </a:r>
            <a:endParaRPr b="0" lang="en-US" sz="4400" spc="-1" strike="noStrike">
              <a:solidFill>
                <a:srgbClr val="676a55"/>
              </a:solidFill>
              <a:latin typeface="Tw Cen MT"/>
            </a:endParaRPr>
          </a:p>
        </p:txBody>
      </p:sp>
      <p:sp>
        <p:nvSpPr>
          <p:cNvPr id="412" name="PlaceHolder 2"/>
          <p:cNvSpPr>
            <a:spLocks noGrp="1"/>
          </p:cNvSpPr>
          <p:nvPr>
            <p:ph/>
          </p:nvPr>
        </p:nvSpPr>
        <p:spPr>
          <a:xfrm>
            <a:off x="533520" y="1676520"/>
            <a:ext cx="8229600" cy="4952880"/>
          </a:xfrm>
          <a:prstGeom prst="rect">
            <a:avLst/>
          </a:prstGeom>
          <a:noFill/>
          <a:ln w="0">
            <a:noFill/>
          </a:ln>
        </p:spPr>
        <p:txBody>
          <a:bodyPr anchor="t">
            <a:normAutofit fontScale="95000"/>
          </a:bodyPr>
          <a:p>
            <a:pPr marL="578880" indent="-578880">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Sufficient cause for a teacher’s discharge exists as a matter of law when the teacher’s deficiency is unremediable, and:</a:t>
            </a:r>
            <a:endParaRPr b="0" lang="en-US" sz="28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terially and substantially affects the teacher’s performance, OR</a:t>
            </a:r>
            <a:endParaRPr b="0" lang="en-US" sz="24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acks any positive educational aspect or legitimate professional purpose.</a:t>
            </a:r>
            <a:endParaRPr b="0" lang="en-US" sz="24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such cases, the teacher is deemed to have materially breached his promise to teach and can be discharged without compliance with the probationary procedures of RCW 28A.67.065.”</a:t>
            </a:r>
            <a:endParaRPr b="0" lang="en-US" sz="2800" spc="-1" strike="noStrike">
              <a:solidFill>
                <a:srgbClr val="000000"/>
              </a:solidFill>
              <a:latin typeface="Tw Cen MT"/>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600"/>
            <a:ext cx="8308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agland v Mt. Vernon   </a:t>
            </a:r>
            <a:r>
              <a:rPr b="0" lang="en-US" sz="3600" spc="-1" strike="noStrike">
                <a:solidFill>
                  <a:srgbClr val="676a55"/>
                </a:solidFill>
                <a:latin typeface="Tw Cen MT"/>
              </a:rPr>
              <a:t>SC WA 1981</a:t>
            </a:r>
            <a:endParaRPr b="0" lang="en-US" sz="3600" spc="-1" strike="noStrike">
              <a:solidFill>
                <a:srgbClr val="676a55"/>
              </a:solidFill>
              <a:latin typeface="Tw Cen MT"/>
            </a:endParaRPr>
          </a:p>
        </p:txBody>
      </p:sp>
      <p:sp>
        <p:nvSpPr>
          <p:cNvPr id="414" name=""/>
          <p:cNvSpPr txBox="1"/>
          <p:nvPr/>
        </p:nvSpPr>
        <p:spPr>
          <a:xfrm>
            <a:off x="533520" y="1905120"/>
            <a:ext cx="8153280" cy="4495680"/>
          </a:xfrm>
          <a:prstGeom prst="rect">
            <a:avLst/>
          </a:prstGeom>
          <a:noFill/>
          <a:ln w="0">
            <a:noFill/>
          </a:ln>
        </p:spPr>
        <p:txBody>
          <a:bodyPr anchor="t">
            <a:normAutofit/>
          </a:bodyPr>
          <a:p>
            <a:pPr marL="318960" indent="-318960">
              <a:lnSpc>
                <a:spcPct val="70000"/>
              </a:lnSpc>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ther a teacher’s conduct provides sufficient cause for his discharge shall be determined by considering:</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e and maturity of the student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istence and degree of adverse effects upon students and other teacher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eriod of time elapsed since the conduct occurre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ircumstances surrounding the conduct and its likelihood of repetition</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teacher’s motives, an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effect of the conduct on the rights of the teacher involved and other teachers</a:t>
            </a:r>
            <a:endParaRPr b="0" lang="en-US" sz="28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ashington State Resources</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investigations/DisciplinaryAction.asp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CodeConduct.aspx</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iscipline v Evaluation</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does the process matter? Why can’t we use both?</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fferent Terminology and Processes for Certificated Employee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Performance Nonrenewal” for “remedial” teaching deficiencies</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Discharge” for “nonremedial” behavior that has a substantial adverse impact on performance or for behavior that has no legitimate professional purpose</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Nonrenewal” for misconduct and performance issues with provisional employees</a:t>
            </a:r>
            <a:endParaRPr b="0" lang="en-US" sz="1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0323"/>
                </a:solidFill>
                <a:latin typeface="Tw Cen MT"/>
              </a:rPr>
              <a:t>Discharge v Performance Nonrenewal</a:t>
            </a:r>
            <a:endParaRPr b="0" lang="en-US" sz="4000" spc="-1" strike="noStrike">
              <a:solidFill>
                <a:srgbClr val="676a55"/>
              </a:solidFill>
              <a:latin typeface="Tw Cen MT"/>
            </a:endParaRPr>
          </a:p>
        </p:txBody>
      </p:sp>
      <p:sp>
        <p:nvSpPr>
          <p:cNvPr id="420" name=""/>
          <p:cNvSpPr txBox="1"/>
          <p:nvPr/>
        </p:nvSpPr>
        <p:spPr>
          <a:xfrm>
            <a:off x="609120" y="2437920"/>
            <a:ext cx="3886200" cy="358164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Requires either progressive discipline or severe single inciden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Can occur anytime during the contrac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Notice must specify the Reasons for the Discharge</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21"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quires an initial unsatisfactory evaluation and a probationary plan of improvement</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plan of improvement must give the employee an opportunity to improve</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Notice of nonrenewal by May 15 </a:t>
            </a:r>
            <a:endParaRPr b="0" lang="en-US" sz="2700" spc="-1" strike="noStrike">
              <a:solidFill>
                <a:srgbClr val="000000"/>
              </a:solidFill>
              <a:latin typeface="Tw Cen MT"/>
            </a:endParaRPr>
          </a:p>
          <a:p>
            <a:pPr marL="286920" indent="-2869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22"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Discharge</a:t>
            </a:r>
            <a:endParaRPr b="0" lang="en-US" sz="2400" spc="-1" strike="noStrike">
              <a:solidFill>
                <a:srgbClr val="000000"/>
              </a:solidFill>
              <a:latin typeface="Tw Cen MT"/>
            </a:endParaRPr>
          </a:p>
        </p:txBody>
      </p:sp>
      <p:sp>
        <p:nvSpPr>
          <p:cNvPr id="423"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erformance Nonrenewal</a:t>
            </a:r>
            <a:endParaRPr b="0" lang="en-US" sz="2400" spc="-1" strike="noStrike">
              <a:solidFill>
                <a:srgbClr val="000000"/>
              </a:solidFill>
              <a:latin typeface="Tw Cen M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3">
                                            <p:txEl>
                                              <p:pRg st="0" end="0"/>
                                            </p:txEl>
                                          </p:spTgt>
                                        </p:tgtEl>
                                        <p:attrNameLst>
                                          <p:attrName>style.visibility</p:attrName>
                                        </p:attrNameLst>
                                      </p:cBhvr>
                                      <p:to>
                                        <p:strVal val="visible"/>
                                      </p:to>
                                    </p:set>
                                    <p:anim calcmode="lin" valueType="num">
                                      <p:cBhvr additive="base">
                                        <p:cTn id="7" dur="500" fill="hold"/>
                                        <p:tgtEl>
                                          <p:spTgt spid="42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Tips</a:t>
            </a:r>
            <a:endParaRPr b="0" lang="en-US" sz="4400" spc="-1" strike="noStrike">
              <a:solidFill>
                <a:srgbClr val="676a55"/>
              </a:solidFill>
              <a:latin typeface="Tw Cen MT"/>
            </a:endParaRPr>
          </a:p>
        </p:txBody>
      </p:sp>
      <p:sp>
        <p:nvSpPr>
          <p:cNvPr id="425"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your evaluation criteria</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deliberate notes</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the following formula</a:t>
            </a:r>
            <a:endParaRPr b="0" lang="en-US" sz="29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 have a concern with…(cite criteria from evaluati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example is …(cite the example from your notes)</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is important because…(provide reas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t is recommended that… (provide your suggestion for remedia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onstitutional Due Process </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Substantive Due Process </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rights does the employee hav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rocedural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can that right be removed legally</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Vagueness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 reason for removal of the right vagu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rrationality and Presumption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re a rational connection between th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xamples</a:t>
            </a:r>
            <a:endParaRPr b="0" lang="en-US" sz="4400" spc="-1" strike="noStrike">
              <a:solidFill>
                <a:srgbClr val="676a55"/>
              </a:solidFill>
              <a:latin typeface="Tw Cen MT"/>
            </a:endParaRPr>
          </a:p>
        </p:txBody>
      </p:sp>
      <p:sp>
        <p:nvSpPr>
          <p:cNvPr id="427" name=""/>
          <p:cNvSpPr txBox="1"/>
          <p:nvPr/>
        </p:nvSpPr>
        <p:spPr>
          <a:xfrm>
            <a:off x="609120" y="2437920"/>
            <a:ext cx="3886200" cy="3581640"/>
          </a:xfrm>
          <a:prstGeom prst="rect">
            <a:avLst/>
          </a:prstGeom>
          <a:noFill/>
          <a:ln w="0">
            <a:noFill/>
          </a:ln>
        </p:spPr>
        <p:txBody>
          <a:bodyPr anchor="t">
            <a:normAutofit fontScale="99000"/>
          </a:bodyPr>
          <a:p>
            <a:pPr marL="528120" indent="-52812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Tw Cen MT"/>
                <a:ea typeface="Times New Roman"/>
              </a:rPr>
              <a:t>Instructional Skill</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Concern</a:t>
            </a:r>
            <a:r>
              <a:rPr b="0" lang="en-US" sz="1300" spc="-1" strike="noStrike">
                <a:solidFill>
                  <a:srgbClr val="000000"/>
                </a:solidFill>
                <a:latin typeface="Tw Cen MT"/>
                <a:ea typeface="Times New Roman"/>
              </a:rPr>
              <a:t>: No observable lesson objective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The lesson began without a statement to the class of what they were going to learn or of what the objective was.  Your stated objective to the students was that you wanted them to have fun. Having fun is not one of our essential learning requirement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a:t>
            </a:r>
            <a:r>
              <a:rPr b="0" lang="en-US" sz="1300" spc="-1" strike="noStrike">
                <a:solidFill>
                  <a:srgbClr val="000000"/>
                </a:solidFill>
                <a:latin typeface="Tw Cen MT"/>
                <a:ea typeface="Times New Roman"/>
              </a:rPr>
              <a:t> It is important to have observable lesson objectives because students will learn  better if they know what is expected. </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I recommend that you include lesson objectives in your planning for this unit and that you provide plans to me by [insert date].</a:t>
            </a:r>
            <a:endParaRPr b="0" lang="en-US" sz="1300" spc="-1" strike="noStrike">
              <a:solidFill>
                <a:srgbClr val="000000"/>
              </a:solidFill>
              <a:latin typeface="Tw Cen MT"/>
            </a:endParaRPr>
          </a:p>
          <a:p>
            <a:pPr marL="528120" indent="-5281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28" name=""/>
          <p:cNvSpPr txBox="1"/>
          <p:nvPr/>
        </p:nvSpPr>
        <p:spPr>
          <a:xfrm>
            <a:off x="4800240" y="2437920"/>
            <a:ext cx="3886200" cy="3581640"/>
          </a:xfrm>
          <a:prstGeom prst="rect">
            <a:avLst/>
          </a:prstGeom>
          <a:noFill/>
          <a:ln w="0">
            <a:noFill/>
          </a:ln>
        </p:spPr>
        <p:txBody>
          <a:bodyPr anchor="t">
            <a:normAutofit fontScale="98000"/>
          </a:bodyPr>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w Cen MT"/>
                <a:ea typeface="Times New Roman"/>
              </a:rPr>
              <a:t>Handling of Student Discipline and Attendant Problem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trength</a:t>
            </a:r>
            <a:r>
              <a:rPr b="0" lang="en-US" sz="1300" spc="-1" strike="noStrike">
                <a:solidFill>
                  <a:srgbClr val="000000"/>
                </a:solidFill>
                <a:latin typeface="Tw Cen MT"/>
                <a:ea typeface="Times New Roman"/>
              </a:rPr>
              <a:t>: The students followed established District policies for their conduct.</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I noticed on four different occasions that students made comments to others about observing the rules on the classroom wall and that students efficiently responded to your reward and consequence system.</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 </a:t>
            </a:r>
            <a:r>
              <a:rPr b="0" lang="en-US" sz="1300" spc="-1" strike="noStrike">
                <a:solidFill>
                  <a:srgbClr val="000000"/>
                </a:solidFill>
                <a:latin typeface="Tw Cen MT"/>
                <a:ea typeface="Times New Roman"/>
              </a:rPr>
              <a:t>It is important to have established guidelines and discipline in the classroom because student learning time is increased without needless discipline distraction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Please keep up the effective implementation of your discipline system.</a:t>
            </a:r>
            <a:endParaRPr b="0" lang="en-US" sz="13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29"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erns</a:t>
            </a:r>
            <a:endParaRPr b="0" lang="en-US" sz="2000" spc="-1" strike="noStrike">
              <a:solidFill>
                <a:srgbClr val="000000"/>
              </a:solidFill>
              <a:latin typeface="Tw Cen MT"/>
            </a:endParaRPr>
          </a:p>
        </p:txBody>
      </p:sp>
      <p:sp>
        <p:nvSpPr>
          <p:cNvPr id="430"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ngth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Discipline IF…. </a:t>
            </a:r>
            <a:r>
              <a:rPr b="0" lang="en-US" sz="1400" spc="-1" strike="noStrike">
                <a:solidFill>
                  <a:srgbClr val="676a55"/>
                </a:solidFill>
                <a:latin typeface="Tw Cen MT"/>
              </a:rPr>
              <a:t>(adapted from Paul Clay, and Staci Vesneske)</a:t>
            </a:r>
            <a:endParaRPr b="0" lang="en-US" sz="1400" spc="-1" strike="noStrike">
              <a:solidFill>
                <a:srgbClr val="676a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have to ask Dr. Ruth what it mean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ack coach thought it would be funny to “accidentally” say that a female athlete’s shorts were “too skimpy for her pubic” instead of saying they were “too skimpy for the public”</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band teacher goes to his car between each period because “he likes to drink bottled water that’s been sitting in a car for a few hour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ad prosecuting attorney is on line 1</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omebody’s ASB account shows a purchase of a new 62” plasma TV…just in time for March Madness, BAB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ow-cal”, “fiber rich” brownies at the faculty party were “groov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kindergarten teacher says: “the little S%*# deserved everything he got!”</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only Discipline IF…</a:t>
            </a:r>
            <a:endParaRPr b="0" lang="en-US" sz="4400" spc="-1" strike="noStrike">
              <a:solidFill>
                <a:srgbClr val="676a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dministrative assistant tells you to call Dr. Howard’s hotel room in Aruba, and Charlie Shreck calls you right back.</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mprovement plan” is: “Stop doing that, you idiot!”</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Taking an interest in kids’ lives” involves texting them, sending emails, and creating a personal MySpace, marked “private” to you, the principal</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ve now said three times, “I can’t believe you did that AGAIN!!!”</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eporter for the Seattle Times has “just a few questions”</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eacher says: “What’s the big deal? Kids get worse bruises dirty dancing at the semester break mixer!”</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parent calls to ask how the movie “American Pie” is related to the 9</a:t>
            </a:r>
            <a:r>
              <a:rPr b="0" lang="en-US" sz="2000" spc="-1" strike="noStrike" baseline="30000">
                <a:solidFill>
                  <a:srgbClr val="000000"/>
                </a:solidFill>
                <a:latin typeface="Tw Cen MT"/>
              </a:rPr>
              <a:t>th</a:t>
            </a:r>
            <a:r>
              <a:rPr b="0" lang="en-US" sz="2000" spc="-1" strike="noStrike">
                <a:solidFill>
                  <a:srgbClr val="000000"/>
                </a:solidFill>
                <a:latin typeface="Tw Cen MT"/>
              </a:rPr>
              <a:t> grade language arts curriculum.</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rry, the Math teacher, points his finger at you, looks you straight in the eye, saying: “I was ONLY practicing my tap routine in the airport restroom!”</a:t>
            </a:r>
            <a:endParaRPr b="0" lang="en-US" sz="2000" spc="-1" strike="noStrike">
              <a:solidFill>
                <a:srgbClr val="000000"/>
              </a:solidFill>
              <a:latin typeface="Tw Cen MT"/>
            </a:endParaRPr>
          </a:p>
          <a:p>
            <a:pPr marL="267840" indent="-26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ubstantive Due Process</a:t>
            </a:r>
            <a:endParaRPr b="0" lang="en-US" sz="4400" spc="-1" strike="noStrike">
              <a:solidFill>
                <a:srgbClr val="676a55"/>
              </a:solidFill>
              <a:latin typeface="Tw Cen MT"/>
            </a:endParaRPr>
          </a:p>
        </p:txBody>
      </p:sp>
      <p:sp>
        <p:nvSpPr>
          <p:cNvPr id="364" name="PlaceHolder 2"/>
          <p:cNvSpPr>
            <a:spLocks noGrp="1"/>
          </p:cNvSpPr>
          <p:nvPr>
            <p:ph/>
          </p:nvPr>
        </p:nvSpPr>
        <p:spPr>
          <a:xfrm>
            <a:off x="609480" y="1752120"/>
            <a:ext cx="1828800" cy="4343400"/>
          </a:xfrm>
          <a:prstGeom prst="rect">
            <a:avLst/>
          </a:prstGeom>
          <a:solidFill>
            <a:srgbClr val="b0ccb0"/>
          </a:solidFill>
          <a:ln cap="sq" w="50760">
            <a:solidFill>
              <a:srgbClr val="b0ccb0"/>
            </a:solidFill>
            <a:miter/>
          </a:ln>
        </p:spPr>
        <p:txBody>
          <a:bodyPr lIns="137160" rIns="137160" tIns="182880" bIns="91440" anchor="t">
            <a:normAutofit fontScale="94000"/>
          </a:bodyPr>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Essence of life, liberty, property, implicit and explicit</a:t>
            </a:r>
            <a:endParaRPr b="0" lang="en-US" sz="2400" spc="-1" strike="noStrike">
              <a:solidFill>
                <a:srgbClr val="000000"/>
              </a:solidFill>
              <a:latin typeface="Tw Cen MT"/>
            </a:endParaRPr>
          </a:p>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Government incursion can occur only after justification and due process</a:t>
            </a:r>
            <a:endParaRPr b="0" lang="en-US" sz="2400" spc="-1" strike="noStrike">
              <a:solidFill>
                <a:srgbClr val="000000"/>
              </a:solidFill>
              <a:latin typeface="Tw Cen MT"/>
            </a:endParaRPr>
          </a:p>
        </p:txBody>
      </p:sp>
      <p:sp>
        <p:nvSpPr>
          <p:cNvPr id="36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7" descr="C:\Users\Debra\Pictures\Microsoft Clip Organizer\j0400750.jpg"/>
          <p:cNvPicPr/>
          <p:nvPr/>
        </p:nvPicPr>
        <p:blipFill>
          <a:blip r:embed="rId1"/>
          <a:stretch/>
        </p:blipFill>
        <p:spPr>
          <a:xfrm>
            <a:off x="2590920" y="1828800"/>
            <a:ext cx="6095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Three Features of Substantive Due Process</a:t>
            </a:r>
            <a:endParaRPr b="0" lang="en-US" sz="3600" spc="-1" strike="noStrike">
              <a:solidFill>
                <a:srgbClr val="676a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berty and property interests are created by an independent source (contract, tenure laws) – not the Constitution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not created, due process is not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created, due process is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Bd of Regents v. Roth; Perry v. Sindermann</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Liberty and Property Interests</a:t>
            </a:r>
            <a:endParaRPr b="0" lang="en-US" sz="4400" spc="-1" strike="noStrike">
              <a:solidFill>
                <a:srgbClr val="676a55"/>
              </a:solidFill>
              <a:latin typeface="Tw Cen MT"/>
            </a:endParaRPr>
          </a:p>
        </p:txBody>
      </p:sp>
      <p:sp>
        <p:nvSpPr>
          <p:cNvPr id="37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berty</a:t>
            </a:r>
            <a:endParaRPr b="0" lang="en-US" sz="32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go where you want, do what you want, without infringing on the rights of others</a:t>
            </a:r>
            <a:endParaRPr b="0" lang="en-US" sz="2900" spc="-1" strike="noStrike">
              <a:solidFill>
                <a:srgbClr val="000000"/>
              </a:solidFill>
              <a:latin typeface="Tw Cen MT"/>
            </a:endParaRPr>
          </a:p>
        </p:txBody>
      </p:sp>
      <p:sp>
        <p:nvSpPr>
          <p:cNvPr id="371" name=""/>
          <p:cNvSpPr txBox="1"/>
          <p:nvPr/>
        </p:nvSpPr>
        <p:spPr>
          <a:xfrm>
            <a:off x="4844520" y="1589040"/>
            <a:ext cx="3886200" cy="457200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rty</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land, money, merchandise, job, opinions, expression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Everything to which a man may attach a value and have a right”</a:t>
            </a:r>
            <a:r>
              <a:rPr b="0" i="1" lang="en-US" sz="1800" spc="-1" strike="noStrike">
                <a:solidFill>
                  <a:srgbClr val="000000"/>
                </a:solidFill>
                <a:latin typeface="Tw Cen MT"/>
              </a:rPr>
              <a:t>Madison</a:t>
            </a:r>
            <a:endParaRPr b="0" lang="en-US" sz="18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oard of Regents v. Roth   SC 1972</a:t>
            </a:r>
            <a:endParaRPr b="0" lang="en-US" sz="4400" spc="-1" strike="noStrike">
              <a:solidFill>
                <a:srgbClr val="676a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 untenured assistant professor was notified that he would not be rehired.  He sued, claiming he had a right to due process before his contract was not renew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erry v. Sindermann          SC 1972</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professor who had been employed on a series of one year contracts was non-renewed after being publically critical of the state governing board.  He sued requesting damages and reinstatement.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rocedural Due Process</a:t>
            </a:r>
            <a:endParaRPr b="0" lang="en-US" sz="4400" spc="-1" strike="noStrike">
              <a:solidFill>
                <a:srgbClr val="676a55"/>
              </a:solidFill>
              <a:latin typeface="Tw Cen MT"/>
            </a:endParaRPr>
          </a:p>
        </p:txBody>
      </p:sp>
      <p:sp>
        <p:nvSpPr>
          <p:cNvPr id="377" name="PlaceHolder 2"/>
          <p:cNvSpPr>
            <a:spLocks noGrp="1"/>
          </p:cNvSpPr>
          <p:nvPr>
            <p:ph/>
          </p:nvPr>
        </p:nvSpPr>
        <p:spPr>
          <a:xfrm>
            <a:off x="609120" y="1752120"/>
            <a:ext cx="2057400" cy="4343400"/>
          </a:xfrm>
          <a:prstGeom prst="rect">
            <a:avLst/>
          </a:prstGeom>
          <a:solidFill>
            <a:srgbClr val="b0ccb0"/>
          </a:solidFill>
          <a:ln cap="sq" w="50760">
            <a:solidFill>
              <a:srgbClr val="b0ccb0"/>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echanics for determining truth</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Notice, opportunity to be heard, and unbiased judg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equired when a fundamental right is suspended by the stat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8" name=""/>
          <p:cNvSpPr txBox="1"/>
          <p:nvPr/>
        </p:nvSpPr>
        <p:spPr>
          <a:xfrm>
            <a:off x="2819520" y="1752120"/>
            <a:ext cx="59436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9" name="Picture 6" descr=""/>
          <p:cNvPicPr/>
          <p:nvPr/>
        </p:nvPicPr>
        <p:blipFill>
          <a:blip r:embed="rId1"/>
          <a:stretch/>
        </p:blipFill>
        <p:spPr>
          <a:xfrm>
            <a:off x="3048120" y="1828800"/>
            <a:ext cx="54864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8:37:59Z</dcterms:created>
  <dc:creator>EVSD EVSD</dc:creator>
  <dc:description/>
  <dc:language>en-US</dc:language>
  <cp:lastModifiedBy>Jim Howard</cp:lastModifiedBy>
  <dcterms:modified xsi:type="dcterms:W3CDTF">2010-03-24T22:28:02Z</dcterms:modified>
  <cp:revision>52</cp:revision>
  <dc:subject/>
  <dc:title>Due Process Rights of Teachers</dc:title>
</cp:coreProperties>
</file>